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A7B2-E860-4768-8901-DF91A0980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8D71-2F99-4C41-B1F4-358DCD0045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A30A-4DA1-4F44-AA8C-FF9F8FD429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EF8E-AF61-44FD-B7D5-2A9987B42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9B4E-655B-41C7-B118-DE4687D4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449A-A4BE-4697-8BD9-62F71981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9B4-B22B-49BA-940F-7CC8B576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DCB7-80A6-4D42-A036-305B9772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2DC4-6BD6-4C85-884C-14BFC3FB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7F97-6FDE-4785-AFB6-C9A9EC70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1A32-B6F4-49ED-9AFD-21CC2A57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E33C-91A0-4E6F-B3E5-93E8284C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014F-3B7B-495F-B01E-995D9637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25FB-8539-454D-9405-4E613A2B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A7BA-8ABB-406A-B8D1-F3AC9FBA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3ABD-64E3-48B7-9D8E-F1ABE3A7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4000-4880-499F-882A-77A37FCA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E56D-F622-4EB1-B480-1D1216D2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7B5D-9372-43E6-875C-2F8C97FF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6817-3DFF-4060-A4DF-1DB53C88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03DD-55EC-48BF-A73F-639E96F9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F09C-8068-4551-B9B3-68566F10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653B-191E-4321-95AF-D4A6D3F1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639-B8CB-40DA-8232-968F0DA6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A363-EAA3-4ABC-8697-0F328416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6292-E5FE-4D09-9AA0-7F7175A5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3E32-103C-4B8A-B030-65FBC32B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970E-7CB0-4F20-8D88-98065740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7e9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2AEB-048F-4B72-81E4-73189A9DF78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Times New Roman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B3DB-BB58-4A45-8CAF-91255C16D1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F930-93B6-4018-8AF7-B444FF2094C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44C6-476E-43B3-9686-7658640EEF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3"/>
          <p:cNvSpPr/>
          <p:nvPr/>
        </p:nvSpPr>
        <p:spPr>
          <a:xfrm flipV="1">
            <a:off x="-15480" y="0"/>
            <a:ext cx="7740720" cy="3610080"/>
          </a:xfrm>
          <a:prstGeom prst="rtTriangle">
            <a:avLst/>
          </a:prstGeom>
          <a:solidFill>
            <a:srgbClr val="ccccff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ight Triangle 4"/>
          <p:cNvSpPr/>
          <p:nvPr/>
        </p:nvSpPr>
        <p:spPr>
          <a:xfrm rot="10800000">
            <a:off x="4303800" y="-360"/>
            <a:ext cx="7888320" cy="5281560"/>
          </a:xfrm>
          <a:prstGeom prst="rtTriangle">
            <a:avLst/>
          </a:prstGeom>
          <a:solidFill>
            <a:srgbClr val="7030a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801720" y="2681280"/>
            <a:ext cx="831204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  <a:ea typeface="Rockwell"/>
              </a:rPr>
              <a:t>Training of Core Train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  <a:ea typeface="Rockwell"/>
              </a:rPr>
              <a:t>CPG Management of  Diabetes In Pregnan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  <a:ea typeface="Rockwell"/>
              </a:rPr>
              <a:t>Postpartum &amp; Contra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ckwell"/>
                <a:ea typeface="Rockwell"/>
              </a:rPr>
              <a:t>B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  <a:ea typeface="Rockwell"/>
              </a:rPr>
              <a:t>Dr. Lili Zuryani Marmu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Rockwell"/>
              </a:rPr>
              <a:t>Family Medicine Specia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Rockwell"/>
              </a:rPr>
              <a:t>Klinik Kesihatan Gunung Rap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rcRect l="24844" t="12660" r="40727" b="22364"/>
          <a:stretch/>
        </p:blipFill>
        <p:spPr>
          <a:xfrm>
            <a:off x="9315360" y="2641680"/>
            <a:ext cx="2675160" cy="4040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Lifestyle Modifica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Lifestyle modification includes medical nutritional therapy, physical activity and behavioural modific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In women with history of GDM, lifestyle modification has been shown to be effective in reducing: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insulin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development of T2D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46080" y="6275520"/>
            <a:ext cx="12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1. Kiley JW, Hammond C, Niznik C, et al. Postpartum glucose tolerance in women with gestational diabetes using levonorgestrel intrauterine contraception. Contraception. 2015;91(1):67-7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1A77-495E-416B-AE42-46899B72F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Recommendation 1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In women with history of GD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OGTT should be performed at 6 weeks after delivery to detect diabetes and pre-diabetes. If the result is negative, annual screening should be per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with abnormal postpartum modified glucose tolerance test, metformin and intensive lifestyle intervention should be considered to prevent diab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breastfeeding of at least 3 months or longer should be encouraged to reduce the risk of diab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42A1-14B7-4DC2-B089-AD8A7E30A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1b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2206440"/>
            <a:ext cx="1219212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Rockwell"/>
                <a:ea typeface="Rockwel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7B33-A1C5-4C10-BCAB-E50DE6AAD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Outl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 txBox="1"/>
          <p:nvPr/>
        </p:nvSpPr>
        <p:spPr>
          <a:xfrm>
            <a:off x="662040" y="1355760"/>
            <a:ext cx="1094112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lucose moni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harmaco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ace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eastfee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festyle mod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ooter Placeholder 2"/>
          <p:cNvSpPr/>
          <p:nvPr/>
        </p:nvSpPr>
        <p:spPr>
          <a:xfrm>
            <a:off x="4038480" y="64818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544A-65AA-4FC6-BE49-C1CF41980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1b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2206440"/>
            <a:ext cx="1219212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Rockwell"/>
                <a:ea typeface="Rockwell"/>
              </a:rPr>
              <a:t>GLUCOSE MONITO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1751-A339-49FC-BE52-E0C8A755C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Postpartum</a:t>
                      </a:r>
                      <a:r>
                        <a:rPr b="1" lang="en-MY" sz="4400" spc="-1" strike="noStrike" baseline="30000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-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 txBox="1"/>
          <p:nvPr/>
        </p:nvSpPr>
        <p:spPr>
          <a:xfrm>
            <a:off x="223920" y="1456920"/>
            <a:ext cx="11571120" cy="29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42720" indent="-3427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existing diabetes on insulin treatment: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440" indent="-4320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ir dose immediately after 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440" indent="-4320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blood glucose to establish the appropriate d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440" indent="-4320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are at increased risk of hypoglycaemia in the postnatal period, especially when breastf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440" indent="-4320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advise to have a meal or snack available before or during feed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women diagnosed with GDM should be able to discontinue their insulin immediately after delivery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31680" y="5807160"/>
            <a:ext cx="12160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Malaysian Endocrine &amp; Metabolic Society and Ministry of Health Malaysia. Management of Type 2 Diabetes Mellitus (5th Edition). Kuala Lumpur: MEMS &amp; MOH; 201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National Collaborating Centre for Women's and Children's Health (UK). Diabetes in pregnancy: management of diabetes and its complications from preconception to the postnatal period. London: NICE; 201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6C6F-D111-408C-9E01-8EBF0908DA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Postpartum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106" name=""/>
          <p:cNvSpPr txBox="1"/>
          <p:nvPr/>
        </p:nvSpPr>
        <p:spPr>
          <a:xfrm>
            <a:off x="212760" y="1282680"/>
            <a:ext cx="1157112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In women with history of GDM, OGTT should be performed at 6 weeks postpartum to detect diabetes and pre-diabetes. If negative, annual screening should be performed.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46080" y="6275520"/>
            <a:ext cx="12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National Collaborating Centre for Women's and Children's Health (UK). Diabetes in pregnancy: management of diabetes and its complications from preconception to the postnatal period. London: NICE; 201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F1AE-A27D-424F-B038-4BBBE8923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Medica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111" name=""/>
          <p:cNvSpPr txBox="1"/>
          <p:nvPr/>
        </p:nvSpPr>
        <p:spPr>
          <a:xfrm>
            <a:off x="275760" y="148248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Post-partum metformin therapy significantly prevents newly-diagnosed diabetes in women with history of GDM compared with placeb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For women with pre-existing DM, assessment to return to pre-pregnancy medication should be made at six weeks postpart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2"/>
          <p:cNvSpPr/>
          <p:nvPr/>
        </p:nvSpPr>
        <p:spPr>
          <a:xfrm>
            <a:off x="4038480" y="64674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71B9-09CA-429E-89DE-C4B4412A5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Breastfeedin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115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Breastfeeding of &gt;3 months in women with history of GDM is associated with lower risk of diabetes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Breastfeeding of &gt;9 months is associated with lower incidence of metabolic syndrome compared with shorter duration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Breastfeeding reduces the odds of abnormal OGTT at 12 weeks compared with bottle-feeding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31680" y="5254560"/>
            <a:ext cx="12160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6. Refuerzo JS, Viteri OA, Hutchinson M, et al. The effects of metformin on weight loss in women with gestational diabetes: a pilot randomized, placebo-controlled trial. Am J Obstet Gynecol. 2015;212(3):389.e1-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7. Ziegler AG, Wallner M, Kaiser I, et al. Long-term protective effect of lactation on the development of type 2 diabetes in women with recent gestational diabetes mellitus. Diabetes. 2012;61(12):3167-317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8. Gunderson EP, Jacobs DR Jr, Chiang V, et al. Duration of lactation and incidence of the metabolic syndrome in women of reproductive age according to gestational diabetes mellitus status: a 20-Year prospective study in CARDIA (Coronary Artery Risk Development in Young Adults). Diabetes. 2010;59(2):495- 504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2229-8E55-4D6C-A8F3-06FA644D4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Contraception</a:t>
                      </a:r>
                      <a:r>
                        <a:rPr b="1" lang="en-MY" sz="4400" spc="-1" strike="noStrike" baseline="30000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-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Women with pre-existing DM or history of GDM are encouraged to have a planned pregnancy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Methods of contraception are based on patient’s preferences and risk factors according to the Medical Eligibility Criteria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Caution when using Depo-Provera because it may worsen the glycaemic control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6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31680" y="6105600"/>
            <a:ext cx="1216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 National Collaborating Centre for Women's and Children's Health (UK). Diabetes in pregnancy: management of diabetes and its complications from preconception to the postnatal period. London: NICE;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. Kapoor N, Sankaran S, Hyer S, et al. Diabetes in pregnancy: a review of current evidence. Curr Opin Obstet Gynecol. 2007;19(6):586-59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8806-E5FF-4F20-9220-AB1ABCAED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Contraception</a:t>
                      </a:r>
                      <a:r>
                        <a:rPr b="1" lang="en-MY" sz="4400" spc="-1" strike="noStrike" baseline="30000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In pre-existing diabetes, there is insufficient evidence to demonstrate any significant difference in contraceptive efficacy and diabetes control between hormonal and non-hormonal contraception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In women with history of GDM, there is limited data to demonstrate that Levonorgestrel-intrauterine system does not negatively affect glucose tolerance (i.e. IFG and IGT) vs copper intrauterine device or tubal sterilisation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1680" y="5904000"/>
            <a:ext cx="1216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9. O’Reilly MW, Avalos G, Dennedy MC, et al. Atlantic DIP: high prevalence of abnormal glucose tolerance post partum is reduced by breast-feeding in women with prior gestational diabetes mellitus. Eur J Endocrinol. 2011;165(6):953-95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. Kiley JW, Hammond C, Niznik C, et al. Postpartum glucose tolerance in women with gestational diabetes using levonorgestrel intrauterine contraception. Contraception. 2015;91(1):67-7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3AF0-3D44-42CB-8532-1E3C41C5F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5T03:30:34Z</dcterms:created>
  <dc:creator>Norasyikin A Wahab</dc:creator>
  <dc:description/>
  <dc:language>en-US</dc:language>
  <cp:lastModifiedBy>Ainol</cp:lastModifiedBy>
  <dcterms:modified xsi:type="dcterms:W3CDTF">2018-07-19T06:36:05Z</dcterms:modified>
  <cp:revision>125</cp:revision>
  <dc:subject/>
  <dc:title>PowerPoint Presentation</dc:title>
</cp:coreProperties>
</file>